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" name=""/>
          <p:cNvGraphicFramePr/>
          <p:nvPr/>
        </p:nvGraphicFramePr>
        <p:xfrm>
          <a:off x="0" y="-228600"/>
          <a:ext cx="9450360" cy="708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28600"/>
                    <a:ext cx="945036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" name=""/>
          <p:cNvSpPr/>
          <p:nvPr/>
        </p:nvSpPr>
        <p:spPr>
          <a:xfrm>
            <a:off x="7269120" y="3675240"/>
            <a:ext cx="848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ush Script MT"/>
              </a:rPr>
              <a:t>K. News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999840" y="5854680"/>
            <a:ext cx="1289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ush Script MT"/>
              </a:rPr>
              <a:t>Mamie M. Micke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70800" y="5427720"/>
            <a:ext cx="1260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ush Script MT"/>
              </a:rPr>
              <a:t>Ronald S. Crand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68080" y="6037200"/>
            <a:ext cx="780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ush Script MT"/>
              </a:rPr>
              <a:t>J.P. Mor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520" y="6434280"/>
            <a:ext cx="88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 1415                                                                                                              2 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-228600"/>
          <a:ext cx="9448920" cy="708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28600"/>
                    <a:ext cx="944892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7171920" y="3645000"/>
            <a:ext cx="11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ush Script MT"/>
              </a:rPr>
              <a:t>Aaron E. Wil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52480" y="5884920"/>
            <a:ext cx="992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ush Script MT"/>
              </a:rPr>
              <a:t>John C. Gre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72320" y="5427720"/>
            <a:ext cx="1059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ush Script MT"/>
              </a:rPr>
              <a:t>Michael H. Ali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38200" y="6037200"/>
            <a:ext cx="727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ush Script MT"/>
              </a:rPr>
              <a:t>J.T. Fiel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880" y="6434280"/>
            <a:ext cx="8817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 1415                                                                                                             4 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9960" y="216000"/>
            <a:ext cx="849636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C _____                                                                   54TH (MECH) INF DIV                                                               PAGE ____ OF 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OR_____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FUND CONTROL RECORD                                                      UNIT/ACTIVITY 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                      DOCU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.          DATE     REFERENCE     FUNDING     COMMITMENT     UNCOMMITTED BALANCE       DOR/DCR          OBLIGATION     REMARK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         TARGET          AMOUNT                                                            DATE/BLOCK          AMOU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              (B)              (C)                     (D)                   (E)                                       (F)                             (G)                        (H)                     (I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8760" y="914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8760" y="1752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8760" y="21337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8760" y="2514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8760" y="2895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8760" y="3200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8760" y="35053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8760" y="38862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8760" y="41911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8760" y="44956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8760" y="4800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8760" y="51055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8760" y="54100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8760" y="57150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8760" y="60199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9917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866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909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0773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65880" y="1892160"/>
            <a:ext cx="496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7880" y="6434280"/>
            <a:ext cx="8817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 1415                                                                                                            18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8440" y="216000"/>
            <a:ext cx="851940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C _____                                                                      54TH (MECH) INF DIV                                                               PAGE ____ OF 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OR _____                                                                    FUND CONTROL RECORD                                                      UNIT/ACTIVITY  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                      DOCU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.          DATE     REFERENCE     FUNDING     COMMITMENT     UNCOMMITTED BALANCE       DOR/DCR          OBLIGATION     REMARK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         TARGET          AMOUNT                                                            DATE/BLOCK          AMOU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              (B)              (C)                     (D)                   (E)                                       (F)                             (G)                        (H)                     (I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8760" y="914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8760" y="1752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8760" y="21337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8760" y="2514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8760" y="2895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8760" y="3200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8760" y="35053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8760" y="38862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8760" y="41911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8760" y="44956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8760" y="4800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760" y="51055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8760" y="54100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8760" y="57150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8760" y="60199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917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866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909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0773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520" y="6434280"/>
            <a:ext cx="88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 1415                                                                                                            19 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5200" y="216000"/>
            <a:ext cx="862452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C _____                                                                        54TH (MECH) INF DIV                                                               PAGE ____ OF 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OR _____                                                                    FUND CONTROL RECORD                                                      UNIT/ACTIVITY 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                      DOCU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.          DATE     REFERENCE     FUNDING     COMMITMENT     UNCOMMITTED BALANCE       DOR/DCR          OBLIGATION     REMARK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         TARGET          AMOUNT                                                            DATE/BLOCK          AMOU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              (B)              (C)                     (D)                   (E)                                       (F)                             (G)                        (H)                     (I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8760" y="914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8760" y="1752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8760" y="21337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8760" y="2514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8760" y="2895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8760" y="3200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8760" y="35053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8760" y="38862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8760" y="41911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8760" y="44956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8760" y="4800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8760" y="51055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8760" y="54100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8760" y="57150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8760" y="60199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9917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866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58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773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7880" y="6434280"/>
            <a:ext cx="8712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 1415                                                                                                          20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85560" y="216000"/>
            <a:ext cx="855432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C _____                                                                       54TH (MECH) INF DIV                                                               PAGE ____ OF 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OR _____                                                                    FUND CONTROL RECORD                                                      UNIT/ACTIVITY 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                      DOCU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.          DATE     REFERENCE     FUNDING     COMMITMENT     UNCOMMITTED BALANCE       DOR/DCR          OBLIGATION     REMARK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         TARGET          AMOUNT                                                            DATE/BLOCK          AMOU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              (B)              (C)                     (D)                   (E)                                       (F)                             (G)                        (H)                     (I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8760" y="914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8760" y="1752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8760" y="21337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8760" y="2514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8760" y="2895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8760" y="3200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8760" y="35053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8760" y="38862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8760" y="41911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8760" y="44956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8760" y="4800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8760" y="51055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8760" y="54100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8760" y="57150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8760" y="60199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9917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52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773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7880" y="6434280"/>
            <a:ext cx="8748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 1415                                                                                                         21 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5200" y="216000"/>
            <a:ext cx="862452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C _____                                                                       54TH (MECH) INF DIV                                                               PAGE ____ OF 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OR _____                                                                    FUND CONTROL RECORD                                                      UNIT/ACTIVITY 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                      DOCU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.          DATE     REFERENCE     FUNDING     COMMITMENT     UNCOMMITTED BALANCE       DOR/DCR          OBLIGATION     REMARK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         TARGET          AMOUNT                                                            DATE/BLOCK          AMOU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              (B)              (C)                     (D)                   (E)                                       (F)                             (G)                        (H)                     (I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8760" y="914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8760" y="1752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8760" y="21337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8760" y="2514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8760" y="2895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8760" y="3200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8760" y="35053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8760" y="38862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8760" y="41911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8760" y="44956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8760" y="4800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8760" y="51055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8760" y="54100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8760" y="57150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8760" y="60199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9917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66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58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52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773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880" y="6434280"/>
            <a:ext cx="8712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 1415                                                                                                          22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5560" y="216000"/>
            <a:ext cx="858924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C _____                                                                      54TH (MECH) INF DIV                                                               PAGE ____ OF 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OR _____                                                                   FUND CONTROL RECORD                                                      UNIT/ACTIVITY 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                      DOCU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.          DATE     REFERENCE     FUNDING     COMMITMENT     UNCOMMITTED BALANCE       DOR/DCR          OBLIGATION     REMARK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         TARGET          AMOUNT                                                            DATE/BLOCK          AMOU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              (B)              (C)                     (D)                   (E)                                       (F)                             (G)                        (H)                     (I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8760" y="914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8760" y="1752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8760" y="21337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8760" y="2514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8760" y="2895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8760" y="3200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8760" y="35053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8760" y="38862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8760" y="41911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8760" y="44956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8760" y="4800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" y="51055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8760" y="54100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8760" y="57150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8760" y="60199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9917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866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58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434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909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773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880" y="6434280"/>
            <a:ext cx="8712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 1415                                                                                                          23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7T10:25:24Z</dcterms:created>
  <dc:creator>Soldier Support Institute</dc:creator>
  <dc:description/>
  <dc:language>en-US</dc:language>
  <cp:lastModifiedBy>Administrator</cp:lastModifiedBy>
  <cp:lastPrinted>2000-01-24T16:49:18Z</cp:lastPrinted>
  <dcterms:modified xsi:type="dcterms:W3CDTF">2004-10-07T11:49:24Z</dcterms:modified>
  <cp:revision>17</cp:revision>
  <dc:subject/>
  <dc:title>PE COVER SHEET</dc:title>
</cp:coreProperties>
</file>